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1CE-B18D-4C1F-BE8C-088F012C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40D-8C48-4D2C-8413-43DC843B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4E0-0446-4557-B21D-2CB5E143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9C4-94DD-4993-B360-09C9D6AE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96E1-3EDB-4753-A401-051D20F3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482F-B55A-4413-A748-DDE2D91D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5922-4B70-4999-8BB4-8CD829DE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F157-9086-44C1-8752-6B50B390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AABA-4254-4594-A0DE-69E0E344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48C0-964E-4EF6-951E-2E858A80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C0D6-B3F8-4B58-B135-3A241729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1FE-53AB-4F24-8D00-C6080ADD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B35D-0768-4FAC-9B12-24778D51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7DF3-B4C2-4D40-9F8D-421A852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6383-0851-4772-9D48-346FCA59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29AB-FEC9-45A4-9922-72CAA1A9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A9D9-C8E7-4C89-B3C6-071055B7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D66-A89B-4849-944B-5BF909C4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071-1426-4CAB-98AF-3BBB9527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827-2879-43F8-B65D-DDB206A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65E-D648-4C9A-B44D-D473CAE1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373-7868-4D07-94CA-9ADE702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9E0-BBB7-4DF0-90B5-82C5C0FC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3FE-BD76-4EC9-B9C8-C681C74B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5E2E-5B89-4830-970D-8319CC39F2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CE36-D5F2-48E5-BDA2-2112B3AB74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ЦЕС КОМУНИКАЦИЈE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снове комуни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ј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ти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уникац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ерб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уникација;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верб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уник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сновни обл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рбалне комуник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азгов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говор обухват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комуникацијске вешт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лушањ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оворењ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штина комуникације подразуме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рз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економино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рганизовано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лективно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варање повер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авети за вербалну комуник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ворити јасно, тако се може све разум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ти језик који је адекватан теми и примерен саговорни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ти речи примерене ситуац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а бити љубазан и прихватити формалност коју налаже ситу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ти питања која ће служити за проверу да ли су други разумели оно што се при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лушати пажљиво саговорник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нхибитори комуник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зумљиво пренета порука – терминолошке несуглас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ише информација (преоптерећенос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ак информ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зумевање или погрешно разумев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љашњи фактори: бука, просторија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центрисаност саговор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ћуткивање, заташкавање и дезинформ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овор у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нологу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захт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ан, концизан и живописан ток излагањ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ицање теме тј. фокуса 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абир висине интон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есан темпо излаг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менат импров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ент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е компонент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ијалог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и концепт – излагање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менат слуш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на миш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а метода и техника прегова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сагово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тока конвер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ност закључ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ини остваривања доброг односа саговор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шање сагово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а технике унакрсних 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норисање личног момента и занемаривање претераног емоционалног реаго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а мирног и сигурног т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ан однос у циљу стварања пове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пок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изање договора и компром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иса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арактеристике доброг пис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ноћ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еност и језгровит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ергичн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лик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рховит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вање по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5:08:48Z</dcterms:modified>
  <cp:revision>181</cp:revision>
  <dc:subject/>
  <dc:title>Soft and Hard Skills Development: A Current Situation in Serbian Companies</dc:title>
</cp:coreProperties>
</file>